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28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dt" idx="76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77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 type="sldNum" idx="78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EE0E-39CA-4122-A77E-04838C4C85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0E12-5D77-427F-9F3D-4F943CC98B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9D08-0C42-4804-878E-C6D187AD30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E6FC-36E4-416D-90C5-8B6730DF15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306C-7C04-48BD-8503-86F24992AB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876A-3F89-47DA-9E7D-FA51EC104F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5A3B-FCB1-4231-BF01-FA47C56963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6E41-31B8-4F07-BC58-FAC5B363F3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B415-0403-4ED0-A734-3487383F85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509E-ADB3-4CB2-B8AC-9223A15CB1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5277-BB95-4224-A535-F8892B28E5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38C8-E4CD-49A1-89B4-C7F2BE7E9E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FA4-7C2E-449C-A897-9258B74F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DA1-04D1-4553-BA17-486FFE8A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BD733-8C59-4C7D-8F9A-31DC3549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03ADC-A40B-48E4-87E9-325386E7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965DE-703D-4F7A-A543-36BC56C2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5D566-BD6B-434A-9093-5FC7A797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486AE-0D29-45E1-A066-A5B611AE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63976-1951-440D-A523-33D2DA41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DB1E1-AD76-445D-9BE3-3B76935C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9B3CA-E771-4084-B115-2C6DF6CC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9958A-FA77-4C5F-BD96-39D04F3A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ED6B6-9330-4A2C-B836-85FEEA70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A6F-7259-4262-9C18-9F539923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FEF62-B004-4A47-B915-74BBB1F1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30997-F7AC-4083-A94E-A7F83285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55152-8195-42C7-9643-19B56E58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EDCB9-84D0-4D84-A3FF-AAB79527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340BC-9CBD-4FA7-91C4-682A88E8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2D393-0FB8-4469-B820-6E8CB696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A6798-0D46-4C76-8D91-4E8D3FE3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0DFA0-CAC1-48E5-AD77-259E87DD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C8DBE-5FEC-4684-B162-B7A6C0D6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6DC62-5B2E-4E28-89DA-A0CBD30D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44A-ED22-4264-A47C-26636725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734C1-DBB4-4C9B-B125-9B780ABF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7D270-1257-403C-8404-AA954527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75636-B3B7-495E-A906-6FBAE984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BA31E-C9B1-4A9B-A5CF-F8E02FCE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F9744-46DF-4F09-AA5C-6571962B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33498-BC46-49DB-9E2E-17DEAD6E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074AF-DF94-434C-A08A-1CDB2179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509D7-A22A-4C43-A498-1092E688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A139F-7207-4ABB-A07A-4C576328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F54B8-AB01-48CD-81A3-2782B3F9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C3B7-5D89-4D24-859B-EB660391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D712D-C652-4E7A-AF49-583E32D9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7A827-F8D0-48A5-9E83-BD734349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07C97-8B54-4142-BC60-56F973CC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F947A-B561-48B3-B6C6-102B1817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3F8DD-6C0C-4401-A6EE-31D71E15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C95E1-7904-45F5-94E5-033C7375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0D4A2-D74B-4B93-9364-91A7B0BB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3EE60-F408-4D7F-946B-D08611ED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9A2F2-634D-4A48-919F-4094AC09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C13D7-734C-481B-A6E3-68719605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274C-A154-48DF-93A4-749F21F9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F9E1E-C8B1-49C4-8F27-FF8E6D8E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7E161-8BA9-45BC-99FF-AE6A447C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6008B-31C1-469B-9F65-8B6B34D8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F504F-7EF4-4C77-AF2A-E778183C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AE5C6-EBEA-4471-95A0-F711B22B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8DA36-5186-4BD7-9934-11304A09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DED07-A76D-42B9-B64C-7DA58EBE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C429D-1D7B-4882-BE3A-7A0E4696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BF527-C664-45E4-8DB5-8D42DCB3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B9D7C-20AE-453D-8E2B-1A52A297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72F7-9130-45A4-B81B-8D4DB2E5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5CBFC-6EFB-4BB7-BC8A-D7A6A382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241C7-5372-4F1D-9289-C3CBB887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14555-63D5-411C-9266-80EAEC1C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8FD82-39DC-4414-827E-BC2DC11B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FEC24-A154-41D6-A62D-9AE840B8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CB06B-BE44-48F6-9653-AB317488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687D9-29FA-4494-87EF-F71D650A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26740-1E05-4B78-9A5F-34532B66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CB4C1-2605-44A4-9E09-5A1649BB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6DDB9-97F0-414A-8910-E244927D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1FD8-CA74-4159-BD2D-A08D8CDF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8532F-73D4-44B7-AEB7-018A7486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3BAF5-20B6-4558-A4FE-9537BAB5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C8EA9-86D1-4566-9AEB-ED8664AF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3943C-BA06-4E16-AEC3-834C4266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06443-ECDE-4F50-ACAB-1DDE63E4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0D336-2674-4ACD-A1EA-14B78FB7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8C655-6025-4373-8999-2D036AD6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EFD83-72A7-4F56-8C88-21402008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331B9-5AB2-40CA-B350-6FE44A76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E6AA0-2895-446C-9D1C-DDDC8C5E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225A-A502-4D85-AA49-7B001E6B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2F53B-38D2-4B2A-808D-549E792B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2886A-8DC3-4764-80B7-2D8512C9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33D86-FE7C-4547-9AE0-73448C3F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D6372-78FD-428F-B284-03DD953A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89B8D6-22B2-4FA2-A2AA-12EA420E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4BC2E-E7B0-480F-AE48-8C3EE6B8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D008F-3A0A-4D04-B3BD-B4A69C76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56612-B046-4408-BFC8-F9E6AADE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190B5-9A7A-42C2-B390-57E92638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1A104-B6B8-489A-AC4B-3FBFBB22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7A67-9353-4E57-9287-D100D26C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D0246-9E93-4639-BB4A-ADC2F849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174961-8B04-4D29-BF40-BA047765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D7C9F-65FE-4211-A737-ED291562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1D554-351A-42D0-B1D4-16C1E2E3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F9354-F36F-4615-8439-212FD6AC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8B432-E88E-4E9B-9F00-CB9D741D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D4477-7A27-445E-9A43-29F81785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4D21E-43B3-4C90-B3B6-13CDB085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3F0D72-E59C-4A8C-9D87-D633D4AF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A3C35-C84A-4C79-8D6B-985CFF1F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5508-11B3-4140-841F-F6F05A0E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9D7863-F89D-41EB-A0E1-EDFD9974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03145E-5A5A-4365-B8C5-41B1B34B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BDA05-6B4E-46F4-85A1-5E763DA6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7E798-D2B1-4F1C-B912-B0403D73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33C11-7A30-4277-9A0D-CE867DBD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31FDE-D885-4071-AB4D-F8807DA9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DE2927-9415-4188-AB52-BCDB9DA8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BA063-7F74-4A67-AC70-A608F3D6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DDD143-C949-4A7B-8D8A-BF9588EF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CE960-AA0B-4A3C-8672-DB9DD2DD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82C-80A5-41B4-88C5-09728E3E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64AF-586B-437F-95AB-C7DB2298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86970-2A16-4D46-92E8-31B613B3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76EA8-1B1D-4B03-8FF9-9CFA3E24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D81FF-B04D-4995-8E78-BBE4C3F3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CA25F3-B006-45A2-A47C-AC4E9CDB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5054BB-7917-4A56-A998-2419CE22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B090D8-E56C-4E34-B89E-873DE3BD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B821C6-F2AA-4A18-9AB6-E461BC52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D07CC-872C-45AA-97CC-50B96C94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4836B-FC82-4A2E-9A18-718439A4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A00A9E-C6F1-4E86-AEC2-CDC2C363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5EB1-9253-434F-A907-466E7618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E657F0-307E-46E7-828C-2F5F1D50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CCE197-41CF-4D87-A19E-1E5B8836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22AED-AFB9-433E-AA86-19384933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5F1E21-0C3A-47B5-AC7D-B68B2EC2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7C8A94-D482-4288-BC98-C984553B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612BF-DCC0-4570-B9A0-CF94C11B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A34B7-DEB5-4DF2-8796-BBF9AABF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1A948B-A9C9-4C8C-9DC4-8FA94807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433624-C92F-457F-9ED0-05E12DB6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E17A7-C0B7-4966-8D87-0E0B0843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FDCD-7DBA-4C6C-80F9-61BE2128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2867A9-ABE9-4DAF-94EB-020555E3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6347F7-0D0E-4BE7-BB8C-3C7C811E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215A8F-3000-46EB-9062-817DA84B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8E5A35-F782-49B3-A046-5874DEF1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B6DCA9-D218-4098-87EC-ADF48DF6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BBFE1E-3DD6-4C47-ADF2-9C396FA8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E7C67D-0D79-4FB6-9340-D02A2101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517102-9989-4085-BD0F-7A5D7203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DD087-BC30-4EA9-9DAD-942CCB99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102771-CE72-4C49-9117-5970D04D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4202-CC2E-434F-8DAC-1FE72564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4DF3EF-5B2A-4E73-B61A-CF0493F8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403426-A2A9-418A-8C44-750E8B82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FDE711-A7C0-40C1-A74B-C4022495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1744C7-1B58-48BF-93A8-1AB4BBB3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524258-9591-4A07-8453-76A28109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107C58-155D-4E0D-9554-44E9184D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B64834-6FA3-44D5-A689-1A1B06CD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96C52A-D329-4B90-81A0-80259B33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353410-612D-40E3-838D-7DEAD073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20CED6-548C-4836-BD97-5DADEB34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40E6-1173-4F7B-97FF-1488B3F3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C22863-266D-4132-AE20-9B2D4736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0F6064-19E8-425F-B0DA-9F414A0E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982E89-063F-4E09-B1FF-DE76BDA6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212D01-B701-4AD5-8F29-FC2644AB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61DC3-A788-4066-994B-04037D86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19B8F-7DA8-4D52-A07E-8DD0370D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87F0B-E087-4D55-8B92-9578C206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050F42-1242-4B66-BA7C-146A0A3A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EF53FA-24C0-43DB-AB11-30B85AAB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026A60-38B9-4D19-9A64-495BDC60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58C3-AD77-4E9C-80E0-0D92035F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780918-5131-42D6-84E6-1B337AF8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052B5D-E310-4F9D-BFBA-57140EC3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27254B-7A49-4577-B9BC-639C3C52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A0CAEF-4018-4F99-8A57-B50A1174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DFC5FA-CBCD-4F97-B759-4A761291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3B77DA-7CD0-4342-88D4-6828C601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3A59D9-8832-4D38-8524-E23584FE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137FC7-F548-48D6-BA92-78E5A3E4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FD2CC9-3C41-485F-8B4E-F676BA71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174D74-A312-44B3-AA70-85757714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394D-2394-4AD9-8649-3D0C3397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0F56E8-E018-4334-B220-2E46838B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C435F0-A67D-494B-B416-48911CF1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A12068-CA2F-4570-9D4B-DE3BF161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F3FDE5-B93E-473F-900D-9BE914F8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56ABE9-04E1-47EE-B942-4011DBB9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C7AC0F-7BCB-49AD-9D76-D15C72E1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262BBE-EB90-4A1E-BAFF-CBF2404F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DC4138-06AF-4431-9BB6-0F31E1C3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1F2627-B083-4B14-A5FA-8BB4A64B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1CBC6B-2F12-450E-BF9A-93C4C3C9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830E-848C-45D0-A8AC-E66ACFE4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03448C-A81D-4529-A713-915E118B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9B50AD-A86F-4016-A4B2-F1573065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558BC9-5C57-442E-8D22-128858B0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AE58B4-73D9-42A1-A434-F8590597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F7860D-53CD-4418-BD94-B0EA3F4A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29E019-1681-4537-80A5-A2677257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7E4AFC-A2C3-42A0-A32E-2DC7CBB3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C81CD9-E8F1-45C8-868D-D2C99FA8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34011A-469B-4BD5-A211-9EC2F4D6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93716D-FEBF-4828-9105-66F37C17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128F-4BC6-4168-A782-A9F6F261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156C2F-4B3C-4CDA-B2F9-9A5A3702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060D1C-13EA-41BF-943D-D986D743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36CEA8-4648-4414-BAAA-7F98B592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3FB7B3-2468-477F-B6C8-83643A0D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87BAAF-4572-4F08-82F5-7077BFD7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94FB61-ACE9-4BA0-A6AE-5C0B086C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30BE8C-2DCA-4518-AAA3-6AA38B50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81C692-20EB-4D15-878A-A07E4E32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828DA8-7767-433D-9441-7E183E76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BECAE2-974A-46C4-9D70-F2378C67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A3130-E2FB-4FB0-BD6C-C091B7F5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8DC699-02BB-447C-8FB9-2E625C73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99709A-5322-41E8-8949-72861FC8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53ECB6-E694-4EFF-8406-3EB5261B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609C7A-0774-45CD-B5DC-477F0CC8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34E881-919C-4DCA-9722-22251F53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D7CB86-3216-4285-B107-D5ED3A41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E952F8-0C2A-49FC-BA2F-C9A44FBB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901D29-9C0B-4BFE-8704-C2937B04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2B7F9B-BD57-4FF7-801E-999EE40F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B83ED3-86F3-4628-AAA9-841BEC8C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2CA-BC39-48FE-A975-7980B3F4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9B0A-A954-47A3-A1F2-808C04E3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C3C07E-4A19-4A01-9733-B5FED766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FACE-2A8B-4F8D-B21F-B3C8F553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09559-F716-4A04-BEC2-27589212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54D9-7E5C-482E-A124-FD89338C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DCF9-FD72-4224-B7FD-A20B6EBE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7355-8731-48FD-AA1D-9EDC0CD6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FCCF-0D8F-4131-9650-C97B5482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58306-974A-4050-BEF5-0F7FF2A4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72CCD-E05D-45E5-A201-BA825E00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E9FBF-D045-483D-9AEA-750154CF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35C-C419-4661-85F0-58F481D6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6D2A6-A8F2-4963-8A75-11493DD8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B4B32-C033-4EC1-B2F3-FFFE7D4F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09C7-773F-4F89-A7C3-DF57A582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5A303-69A0-471B-A051-BED1F640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2B9DB-87E3-4691-9604-9AFF144A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1810B-F164-4F85-A2EA-38CF3C07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C10A-DDBC-4CA9-8067-ED4A4B95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21C45-59BB-44EE-AFD4-918E529C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5E24A-A6B6-4B24-8429-4195561D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80274-3B02-49E4-AA64-CCCF15C7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F2C-096B-4E2A-BE14-D6E7F27F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5B910-E535-422B-A742-F3F62FFC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23857-AF8F-401C-AD0E-38DCFDA3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DA3CA-5A8B-4ACD-9BBB-942050E3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01C33-2966-4E4B-B207-A56E8F6C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28B3F-338F-432D-94F6-40BC2C1E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D69DD-7768-46AF-83AE-81C3EFB7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5F077-DFE1-4E4E-94E6-6A4E6263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8B9A0-6007-4966-A7D4-A740ED6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4AFE9-4A12-4E28-9C2E-B9B381D2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0A7BA-D862-41AF-AD03-9D1F4F7C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4A9-4B6D-47BE-B583-28245FD5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258C8-2B92-425D-9343-540E3D2B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05965-6FA5-4F15-A92A-7D171E1A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0654A-46CF-4D06-A95C-738AC186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09B11-EE57-48E6-AC88-3F57A283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49885-281F-4F0B-9B0C-B6EA88EA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49A51-E31F-4671-A8A9-42A52FBB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EE513-4E62-461D-89CE-7DBBE0D6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52BDE-5F75-45F4-AC17-BD0243A9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B3C9A-B623-476C-A2AE-1DB5BC0B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88A69-5296-4263-84EC-2AB7128E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08C-F03F-4E15-B693-F4BC083F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ACB54-7668-449A-85EA-B6B3C394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57E34-F662-4EBB-A99E-33FBB450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C53B8-1225-4AFE-B4D7-D1B564C8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06D8B-C7BA-47A4-B18E-DD373238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0DCA7-75B9-4C00-8CE1-185743C2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B97DB-26C5-4202-A496-0E8DE589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3965C-560B-4AC7-AE0D-7266E52C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A487C-5972-486E-BEB2-DF614AD4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F0D55-C704-4E62-9807-07EE77C9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5CC04-4CFA-44B6-B0A5-ECCEC8A8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659-3165-46F8-83C2-5F5D823B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08807-BACE-47F7-97E1-2C395FF6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F1B66-0092-47D8-ABC2-BAD5BDB3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AFEBD-2594-4494-9EC1-24259886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FDB63-39AB-409D-BDD0-C94C207F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3EA3D-F68F-4279-A894-C0F5B747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D2273-F967-46B7-9110-5107CC45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81C42-0A7E-47DD-8566-B24F04B3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DC1C8-828F-4E76-9D4A-3D81B518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77FC3-8B3A-407B-950D-B0D76EBE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5F468-E510-4DDE-988B-D6800BEA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92F-62DF-44DC-AAEB-6F7D612B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8470B-820B-4D83-AB69-86BB463B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7ED48-BABB-4E82-B6DD-FCA05C13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DDBB0-8BCF-4D29-9D73-24283563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46947-45F4-401B-BD04-BBD8BFF3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88290-F89A-4540-9D7C-1218B72F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FCD71-9C58-483E-B999-870C5E22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310A7-450C-4EF8-8DF1-B392E128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5AD65-CA49-4D33-A80A-F3E0DED3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AB3BA-08FD-4047-906F-EFDB3F0E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6F921-6950-40C6-94DB-E6A1DE5C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3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9FF8-072E-4DE9-A73B-D73757C2D35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2D90-716F-499B-9296-3186FADB224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3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DE45-C891-4C39-91B1-3AD60A77DA7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8683-A1E2-48E8-9E1E-0271FC51686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3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CA87-65B6-44AB-A1CE-8098DDF2E78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7281-976C-45BB-B896-FD0755CAA8C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3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6591-C226-4754-8A92-0018BBEFC8D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7FE7-7F29-40E9-A3DF-4BEF7874F17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3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490B-EDA8-4608-B8AE-25AE0D51959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996D-1359-4593-AD54-A82B86BFD9C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3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F88B-7617-4B8D-ACFC-FFC6A448E0D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34BB-61E0-4FD7-A561-8DB44048407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E2AE-77CF-4983-A019-FDE95285C02D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BB49-088C-4F07-9BFD-EC5205B3379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E9EF-0480-4549-855B-54897CCB5532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657F-4BFA-400B-9CA2-204CF3C63D2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E150-64CF-4857-8221-B98921E6565E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2FDA-D23F-4124-BCE8-5DE4BAC8A1A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0E84-32A1-432A-9B52-31EA6F30B42F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6EB5-6A29-4DDE-A580-E2DF7423D6C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5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2774-73A9-4490-AAEA-A7521ABC75EA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5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5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1D20-56CB-41A9-9054-977E02DACD6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88E1-1E4D-4DEB-9E07-47F9D058ABA0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CA6B-E362-442C-BEF9-7A475B507B0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85D8-C10A-4A87-BDB3-9BAC87E195B4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ECA6-EDA6-4246-92E6-0E079EED51D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6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F2BE-AF4D-4FCE-90DF-C8747E2B1A21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6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62D7-6543-4C60-92DC-617288C5FBA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C115-CD04-46DC-8127-85A2A9073477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1B24-F186-4A29-96AC-B770D4675A1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1071" name="Прямая соединительная линия 20"/>
            <p:cNvSpPr/>
            <p:nvPr/>
          </p:nvSpPr>
          <p:spPr>
            <a:xfrm>
              <a:off x="8589600" y="1217520"/>
              <a:ext cx="55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Прямая соединительная линия 23"/>
            <p:cNvSpPr/>
            <p:nvPr/>
          </p:nvSpPr>
          <p:spPr>
            <a:xfrm>
              <a:off x="8516880" y="1282680"/>
              <a:ext cx="788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Прямая соединительная линия 24"/>
            <p:cNvSpPr/>
            <p:nvPr/>
          </p:nvSpPr>
          <p:spPr>
            <a:xfrm flipV="1">
              <a:off x="8589600" y="1282320"/>
              <a:ext cx="55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075" name="Прямая соединительная линия 26"/>
            <p:cNvSpPr/>
            <p:nvPr/>
          </p:nvSpPr>
          <p:spPr>
            <a:xfrm>
              <a:off x="8742600" y="1370160"/>
              <a:ext cx="55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Прямая соединительная линия 27"/>
            <p:cNvSpPr/>
            <p:nvPr/>
          </p:nvSpPr>
          <p:spPr>
            <a:xfrm>
              <a:off x="8669160" y="1435320"/>
              <a:ext cx="79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Прямая соединительная линия 28"/>
            <p:cNvSpPr/>
            <p:nvPr/>
          </p:nvSpPr>
          <p:spPr>
            <a:xfrm flipV="1">
              <a:off x="8742600" y="1434960"/>
              <a:ext cx="55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1079" name="Прямая соединительная линия 30"/>
            <p:cNvSpPr/>
            <p:nvPr/>
          </p:nvSpPr>
          <p:spPr>
            <a:xfrm>
              <a:off x="8394480" y="1473120"/>
              <a:ext cx="55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Прямая соединительная линия 31"/>
            <p:cNvSpPr/>
            <p:nvPr/>
          </p:nvSpPr>
          <p:spPr>
            <a:xfrm>
              <a:off x="8321760" y="1538280"/>
              <a:ext cx="788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Прямая соединительная линия 32"/>
            <p:cNvSpPr/>
            <p:nvPr/>
          </p:nvSpPr>
          <p:spPr>
            <a:xfrm flipV="1">
              <a:off x="8394480" y="1537920"/>
              <a:ext cx="55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67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B1C8-98E6-4B45-A350-C63AC20F5C5C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68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 type="sldNum" idx="69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DB0F-C915-4822-83E0-8F38A30FF30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dt" idx="7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3004-A08F-4367-B086-AC45EFEEEE26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ftr" idx="7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AD22-4DEC-4DC7-8E07-D035FD84646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7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1240-5248-4CE7-BF82-95FEB2311296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7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7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2458-F022-4E18-B4C0-05967D49B9A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7F91-2F5A-461C-B7A3-7DB46C450030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3668-4238-48A9-90CB-2279CB415804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3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C3D4-A804-4BF7-9D44-AEDFC744E1F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3AE1-CB8D-419A-98D2-062F939110A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4CC2-A3E0-45E4-9F04-723C2156B95A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75E8-0BF4-4D29-9D1B-4FB6780C880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3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EFF1-E051-481E-BA64-0EBFB2A33B8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4DD1-8C73-4149-AD36-1A27DE0AAE8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3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B355-E4A3-40DD-8755-2E48F1F2FEF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5155-9D45-4F12-BE5C-82E4FED43DD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3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BE03-1BB4-4884-8C3F-0434C55B145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BA2C-FE26-46A2-A098-D966E9A38F2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3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65B1-81CB-4EBF-8FC2-5724BB56B5A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0809-A418-46BE-A035-E2901F3A7F0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wmf"/><Relationship Id="rId16" Type="http://schemas.openxmlformats.org/officeDocument/2006/relationships/image" Target="../media/image42.jpeg"/><Relationship Id="rId1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43.png"/><Relationship Id="rId6" Type="http://schemas.openxmlformats.org/officeDocument/2006/relationships/image" Target="../media/image32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wmf"/><Relationship Id="rId16" Type="http://schemas.openxmlformats.org/officeDocument/2006/relationships/image" Target="../media/image42.jpeg"/><Relationship Id="rId1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Заголовок 1" descr=""/>
          <p:cNvPicPr/>
          <p:nvPr/>
        </p:nvPicPr>
        <p:blipFill>
          <a:blip r:embed="rId1"/>
          <a:stretch/>
        </p:blipFill>
        <p:spPr>
          <a:xfrm>
            <a:off x="517680" y="1944720"/>
            <a:ext cx="8662680" cy="3754440"/>
          </a:xfrm>
          <a:prstGeom prst="rect">
            <a:avLst/>
          </a:prstGeom>
          <a:ln w="0">
            <a:noFill/>
          </a:ln>
        </p:spPr>
      </p:pic>
      <p:pic>
        <p:nvPicPr>
          <p:cNvPr id="1231" name="Рисунок 4" descr="gerb.gif"/>
          <p:cNvPicPr/>
          <p:nvPr/>
        </p:nvPicPr>
        <p:blipFill>
          <a:blip r:embed="rId2"/>
          <a:stretch/>
        </p:blipFill>
        <p:spPr>
          <a:xfrm>
            <a:off x="1116000" y="260280"/>
            <a:ext cx="1152360" cy="1314360"/>
          </a:xfrm>
          <a:prstGeom prst="rect">
            <a:avLst/>
          </a:prstGeom>
          <a:ln w="0">
            <a:noFill/>
          </a:ln>
        </p:spPr>
      </p:pic>
      <p:sp>
        <p:nvSpPr>
          <p:cNvPr id="1232" name="Прямоугольник 5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a77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Заголовок 3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273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8786880" cy="5072040"/>
          </a:xfrm>
          <a:prstGeom prst="rect">
            <a:avLst/>
          </a:prstGeom>
          <a:ln w="0">
            <a:noFill/>
          </a:ln>
        </p:spPr>
      </p:pic>
      <p:sp>
        <p:nvSpPr>
          <p:cNvPr id="1274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150D-272C-493C-8AD3-817CCF8E52A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5" name="Заголовок 3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276" name="Содержимое 5" descr=""/>
          <p:cNvPicPr/>
          <p:nvPr/>
        </p:nvPicPr>
        <p:blipFill>
          <a:blip r:embed="rId2"/>
          <a:stretch/>
        </p:blipFill>
        <p:spPr>
          <a:xfrm>
            <a:off x="285840" y="1714680"/>
            <a:ext cx="8501040" cy="4929120"/>
          </a:xfrm>
          <a:prstGeom prst="rect">
            <a:avLst/>
          </a:prstGeom>
          <a:ln w="0">
            <a:noFill/>
          </a:ln>
        </p:spPr>
      </p:pic>
      <p:sp>
        <p:nvSpPr>
          <p:cNvPr id="1277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B010-61AC-46EE-9191-9AB941B156B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Заголовок 3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268280"/>
          </a:xfrm>
          <a:prstGeom prst="rect">
            <a:avLst/>
          </a:prstGeom>
          <a:ln w="0">
            <a:noFill/>
          </a:ln>
        </p:spPr>
      </p:pic>
      <p:pic>
        <p:nvPicPr>
          <p:cNvPr id="1279" name="Диаграмма 3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8429400" cy="5429160"/>
          </a:xfrm>
          <a:prstGeom prst="rect">
            <a:avLst/>
          </a:prstGeom>
          <a:ln w="0">
            <a:noFill/>
          </a:ln>
        </p:spPr>
      </p:pic>
      <p:sp>
        <p:nvSpPr>
          <p:cNvPr id="1280" name="Стрелка вверх 6"/>
          <p:cNvSpPr/>
          <p:nvPr/>
        </p:nvSpPr>
        <p:spPr>
          <a:xfrm rot="5868000">
            <a:off x="3143880" y="2993040"/>
            <a:ext cx="382680" cy="622080"/>
          </a:xfrm>
          <a:prstGeom prst="up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9f201f"/>
              </a:gs>
              <a:gs pos="100000">
                <a:srgbClr val="dc302f"/>
              </a:gs>
            </a:gsLst>
            <a:lin ang="10332000"/>
          </a:gradFill>
          <a:ln cap="rnd" w="6480">
            <a:solidFill>
              <a:srgbClr val="c54342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Номер слайда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AE1B-9F79-4094-956A-1856B4ED607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Стрелка вверх 8"/>
          <p:cNvSpPr/>
          <p:nvPr/>
        </p:nvSpPr>
        <p:spPr>
          <a:xfrm rot="5061600">
            <a:off x="4638240" y="3195360"/>
            <a:ext cx="382680" cy="623880"/>
          </a:xfrm>
          <a:prstGeom prst="up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408d42"/>
              </a:gs>
              <a:gs pos="100000">
                <a:srgbClr val="5cc35f"/>
              </a:gs>
            </a:gsLst>
            <a:lin ang="11142000"/>
          </a:gradFill>
          <a:ln cap="rnd" w="6480">
            <a:solidFill>
              <a:srgbClr val="67b569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Заголовок 3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316160"/>
          </a:xfrm>
          <a:prstGeom prst="rect">
            <a:avLst/>
          </a:prstGeom>
          <a:ln w="0">
            <a:noFill/>
          </a:ln>
        </p:spPr>
      </p:pic>
      <p:pic>
        <p:nvPicPr>
          <p:cNvPr id="1284" name="Содержимое 5" descr=""/>
          <p:cNvPicPr/>
          <p:nvPr/>
        </p:nvPicPr>
        <p:blipFill>
          <a:blip r:embed="rId2"/>
          <a:stretch/>
        </p:blipFill>
        <p:spPr>
          <a:xfrm>
            <a:off x="857160" y="1714680"/>
            <a:ext cx="7715520" cy="4929120"/>
          </a:xfrm>
          <a:prstGeom prst="rect">
            <a:avLst/>
          </a:prstGeom>
          <a:ln w="0">
            <a:noFill/>
          </a:ln>
        </p:spPr>
      </p:pic>
      <p:sp>
        <p:nvSpPr>
          <p:cNvPr id="1285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E340-A2B9-4F68-86E3-7A1FB538360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6"/>
          <p:cNvSpPr/>
          <p:nvPr/>
        </p:nvSpPr>
        <p:spPr>
          <a:xfrm>
            <a:off x="2643120" y="35719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7"/>
          <p:cNvSpPr/>
          <p:nvPr/>
        </p:nvSpPr>
        <p:spPr>
          <a:xfrm>
            <a:off x="4572000" y="36432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8"/>
          <p:cNvSpPr/>
          <p:nvPr/>
        </p:nvSpPr>
        <p:spPr>
          <a:xfrm>
            <a:off x="6500880" y="3500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9" name="Овал 7"/>
          <p:cNvGrpSpPr/>
          <p:nvPr/>
        </p:nvGrpSpPr>
        <p:grpSpPr>
          <a:xfrm>
            <a:off x="139680" y="1054080"/>
            <a:ext cx="1517760" cy="976320"/>
            <a:chOff x="139680" y="1054080"/>
            <a:chExt cx="1517760" cy="976320"/>
          </a:xfrm>
        </p:grpSpPr>
        <p:pic>
          <p:nvPicPr>
            <p:cNvPr id="1290" name="Овал 7" descr=""/>
            <p:cNvPicPr/>
            <p:nvPr/>
          </p:nvPicPr>
          <p:blipFill>
            <a:blip r:embed="rId1"/>
            <a:stretch/>
          </p:blipFill>
          <p:spPr>
            <a:xfrm>
              <a:off x="139680" y="1054080"/>
              <a:ext cx="15177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1" name=""/>
            <p:cNvSpPr/>
            <p:nvPr/>
          </p:nvSpPr>
          <p:spPr>
            <a:xfrm>
              <a:off x="666720" y="1165320"/>
              <a:ext cx="80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Овал 8"/>
          <p:cNvGrpSpPr/>
          <p:nvPr/>
        </p:nvGrpSpPr>
        <p:grpSpPr>
          <a:xfrm>
            <a:off x="139680" y="1908000"/>
            <a:ext cx="1517760" cy="981360"/>
            <a:chOff x="139680" y="1908000"/>
            <a:chExt cx="1517760" cy="981360"/>
          </a:xfrm>
        </p:grpSpPr>
        <p:pic>
          <p:nvPicPr>
            <p:cNvPr id="1293" name="Овал 8" descr=""/>
            <p:cNvPicPr/>
            <p:nvPr/>
          </p:nvPicPr>
          <p:blipFill>
            <a:blip r:embed="rId2"/>
            <a:stretch/>
          </p:blipFill>
          <p:spPr>
            <a:xfrm>
              <a:off x="139680" y="1908000"/>
              <a:ext cx="151776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4" name=""/>
            <p:cNvSpPr/>
            <p:nvPr/>
          </p:nvSpPr>
          <p:spPr>
            <a:xfrm>
              <a:off x="666720" y="2022480"/>
              <a:ext cx="8096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Овал 9"/>
          <p:cNvGrpSpPr/>
          <p:nvPr/>
        </p:nvGrpSpPr>
        <p:grpSpPr>
          <a:xfrm>
            <a:off x="139680" y="2766960"/>
            <a:ext cx="1517760" cy="982800"/>
            <a:chOff x="139680" y="2766960"/>
            <a:chExt cx="1517760" cy="982800"/>
          </a:xfrm>
        </p:grpSpPr>
        <p:pic>
          <p:nvPicPr>
            <p:cNvPr id="1296" name="Овал 9" descr=""/>
            <p:cNvPicPr/>
            <p:nvPr/>
          </p:nvPicPr>
          <p:blipFill>
            <a:blip r:embed="rId3"/>
            <a:stretch/>
          </p:blipFill>
          <p:spPr>
            <a:xfrm>
              <a:off x="139680" y="2766960"/>
              <a:ext cx="151776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"/>
            <p:cNvSpPr/>
            <p:nvPr/>
          </p:nvSpPr>
          <p:spPr>
            <a:xfrm>
              <a:off x="666720" y="2879640"/>
              <a:ext cx="8096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Овал 10"/>
          <p:cNvGrpSpPr/>
          <p:nvPr/>
        </p:nvGrpSpPr>
        <p:grpSpPr>
          <a:xfrm>
            <a:off x="139680" y="3627360"/>
            <a:ext cx="1517760" cy="974880"/>
            <a:chOff x="139680" y="3627360"/>
            <a:chExt cx="1517760" cy="974880"/>
          </a:xfrm>
        </p:grpSpPr>
        <p:pic>
          <p:nvPicPr>
            <p:cNvPr id="1299" name="Овал 10" descr=""/>
            <p:cNvPicPr/>
            <p:nvPr/>
          </p:nvPicPr>
          <p:blipFill>
            <a:blip r:embed="rId4"/>
            <a:stretch/>
          </p:blipFill>
          <p:spPr>
            <a:xfrm>
              <a:off x="139680" y="3627360"/>
              <a:ext cx="151776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666720" y="3736800"/>
              <a:ext cx="8096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Скругленный прямоугольник 35"/>
          <p:cNvSpPr/>
          <p:nvPr/>
        </p:nvSpPr>
        <p:spPr>
          <a:xfrm>
            <a:off x="500040" y="642960"/>
            <a:ext cx="1143000" cy="43578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4357800"/>
              <a:gd name="textAreaBottom" fmla="*/ 4302000 h 4357800"/>
            </a:gdLst>
            <a:ahLst/>
            <a:rect l="textAreaLeft" t="textAreaTop" r="textAreaRight" b="textAreaBottom"/>
            <a:pathLst>
              <a:path w="21600" h="82333">
                <a:moveTo>
                  <a:pt x="3600" y="0"/>
                </a:moveTo>
                <a:arcTo wR="3600" hR="3600" stAng="16200000" swAng="-5400000"/>
                <a:lnTo>
                  <a:pt x="0" y="78733"/>
                </a:lnTo>
                <a:arcTo wR="3600" hR="3600" stAng="10800000" swAng="-5400000"/>
                <a:lnTo>
                  <a:pt x="18000" y="823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Стрелка вправо 13"/>
          <p:cNvGrpSpPr/>
          <p:nvPr/>
        </p:nvGrpSpPr>
        <p:grpSpPr>
          <a:xfrm>
            <a:off x="1427040" y="841320"/>
            <a:ext cx="1084320" cy="689040"/>
            <a:chOff x="1427040" y="841320"/>
            <a:chExt cx="1084320" cy="689040"/>
          </a:xfrm>
        </p:grpSpPr>
        <p:pic>
          <p:nvPicPr>
            <p:cNvPr id="1303" name="Стрелка вправо 13" descr=""/>
            <p:cNvPicPr/>
            <p:nvPr/>
          </p:nvPicPr>
          <p:blipFill>
            <a:blip r:embed="rId5"/>
            <a:stretch/>
          </p:blipFill>
          <p:spPr>
            <a:xfrm>
              <a:off x="1427040" y="841320"/>
              <a:ext cx="10843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1785960" y="946080"/>
              <a:ext cx="6253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Стрелка вправо 14"/>
          <p:cNvGrpSpPr/>
          <p:nvPr/>
        </p:nvGrpSpPr>
        <p:grpSpPr>
          <a:xfrm>
            <a:off x="1427040" y="2127240"/>
            <a:ext cx="1084320" cy="689040"/>
            <a:chOff x="1427040" y="2127240"/>
            <a:chExt cx="1084320" cy="689040"/>
          </a:xfrm>
        </p:grpSpPr>
        <p:pic>
          <p:nvPicPr>
            <p:cNvPr id="1306" name="Стрелка вправо 14" descr=""/>
            <p:cNvPicPr/>
            <p:nvPr/>
          </p:nvPicPr>
          <p:blipFill>
            <a:blip r:embed="rId6"/>
            <a:stretch/>
          </p:blipFill>
          <p:spPr>
            <a:xfrm>
              <a:off x="1427040" y="2127240"/>
              <a:ext cx="10843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7" name=""/>
            <p:cNvSpPr/>
            <p:nvPr/>
          </p:nvSpPr>
          <p:spPr>
            <a:xfrm>
              <a:off x="1785960" y="2232000"/>
              <a:ext cx="6253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Стрелка вправо 15"/>
          <p:cNvGrpSpPr/>
          <p:nvPr/>
        </p:nvGrpSpPr>
        <p:grpSpPr>
          <a:xfrm>
            <a:off x="1427040" y="3340080"/>
            <a:ext cx="1084320" cy="689040"/>
            <a:chOff x="1427040" y="3340080"/>
            <a:chExt cx="1084320" cy="689040"/>
          </a:xfrm>
        </p:grpSpPr>
        <p:pic>
          <p:nvPicPr>
            <p:cNvPr id="1309" name="Стрелка вправо 15" descr=""/>
            <p:cNvPicPr/>
            <p:nvPr/>
          </p:nvPicPr>
          <p:blipFill>
            <a:blip r:embed="rId7"/>
            <a:stretch/>
          </p:blipFill>
          <p:spPr>
            <a:xfrm>
              <a:off x="1427040" y="3340080"/>
              <a:ext cx="10843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0" name=""/>
            <p:cNvSpPr/>
            <p:nvPr/>
          </p:nvSpPr>
          <p:spPr>
            <a:xfrm>
              <a:off x="1785960" y="3446640"/>
              <a:ext cx="6253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Стрелка вправо 16"/>
          <p:cNvGrpSpPr/>
          <p:nvPr/>
        </p:nvGrpSpPr>
        <p:grpSpPr>
          <a:xfrm>
            <a:off x="1427040" y="4413240"/>
            <a:ext cx="1084320" cy="689040"/>
            <a:chOff x="1427040" y="4413240"/>
            <a:chExt cx="1084320" cy="689040"/>
          </a:xfrm>
        </p:grpSpPr>
        <p:pic>
          <p:nvPicPr>
            <p:cNvPr id="1312" name="Стрелка вправо 16" descr=""/>
            <p:cNvPicPr/>
            <p:nvPr/>
          </p:nvPicPr>
          <p:blipFill>
            <a:blip r:embed="rId8"/>
            <a:stretch/>
          </p:blipFill>
          <p:spPr>
            <a:xfrm>
              <a:off x="1427040" y="4413240"/>
              <a:ext cx="10843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1785960" y="4518000"/>
              <a:ext cx="6253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Скругленный прямоугольник 19"/>
          <p:cNvGrpSpPr/>
          <p:nvPr/>
        </p:nvGrpSpPr>
        <p:grpSpPr>
          <a:xfrm>
            <a:off x="2212920" y="695160"/>
            <a:ext cx="6570720" cy="1054440"/>
            <a:chOff x="2212920" y="695160"/>
            <a:chExt cx="6570720" cy="1054440"/>
          </a:xfrm>
        </p:grpSpPr>
        <p:pic>
          <p:nvPicPr>
            <p:cNvPr id="1315" name="Скругленный прямоугольник 19" descr=""/>
            <p:cNvPicPr/>
            <p:nvPr/>
          </p:nvPicPr>
          <p:blipFill>
            <a:blip r:embed="rId9"/>
            <a:stretch/>
          </p:blipFill>
          <p:spPr>
            <a:xfrm>
              <a:off x="2212920" y="695160"/>
              <a:ext cx="6570720" cy="10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2606760" y="749160"/>
              <a:ext cx="61308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Скругленный прямоугольник 20"/>
          <p:cNvGrpSpPr/>
          <p:nvPr/>
        </p:nvGrpSpPr>
        <p:grpSpPr>
          <a:xfrm>
            <a:off x="2212920" y="1835280"/>
            <a:ext cx="6570720" cy="1268280"/>
            <a:chOff x="2212920" y="1835280"/>
            <a:chExt cx="6570720" cy="1268280"/>
          </a:xfrm>
        </p:grpSpPr>
        <p:pic>
          <p:nvPicPr>
            <p:cNvPr id="1318" name="Скругленный прямоугольник 20" descr=""/>
            <p:cNvPicPr/>
            <p:nvPr/>
          </p:nvPicPr>
          <p:blipFill>
            <a:blip r:embed="rId10"/>
            <a:stretch/>
          </p:blipFill>
          <p:spPr>
            <a:xfrm>
              <a:off x="2212920" y="1835280"/>
              <a:ext cx="6570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2617920" y="1900080"/>
              <a:ext cx="61084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Скругленный прямоугольник 21"/>
          <p:cNvGrpSpPr/>
          <p:nvPr/>
        </p:nvGrpSpPr>
        <p:grpSpPr>
          <a:xfrm>
            <a:off x="2212920" y="3193920"/>
            <a:ext cx="6583320" cy="981360"/>
            <a:chOff x="2212920" y="3193920"/>
            <a:chExt cx="6583320" cy="981360"/>
          </a:xfrm>
        </p:grpSpPr>
        <p:pic>
          <p:nvPicPr>
            <p:cNvPr id="1321" name="Скругленный прямоугольник 21" descr=""/>
            <p:cNvPicPr/>
            <p:nvPr/>
          </p:nvPicPr>
          <p:blipFill>
            <a:blip r:embed="rId11"/>
            <a:stretch/>
          </p:blipFill>
          <p:spPr>
            <a:xfrm>
              <a:off x="2212920" y="3193920"/>
              <a:ext cx="658332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>
              <a:off x="2603520" y="3243240"/>
              <a:ext cx="615168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Скругленный прямоугольник 22"/>
          <p:cNvGrpSpPr/>
          <p:nvPr/>
        </p:nvGrpSpPr>
        <p:grpSpPr>
          <a:xfrm>
            <a:off x="2212920" y="4267080"/>
            <a:ext cx="6583320" cy="1047960"/>
            <a:chOff x="2212920" y="4267080"/>
            <a:chExt cx="6583320" cy="1047960"/>
          </a:xfrm>
        </p:grpSpPr>
        <p:pic>
          <p:nvPicPr>
            <p:cNvPr id="1324" name="Скругленный прямоугольник 22" descr=""/>
            <p:cNvPicPr/>
            <p:nvPr/>
          </p:nvPicPr>
          <p:blipFill>
            <a:blip r:embed="rId12"/>
            <a:stretch/>
          </p:blipFill>
          <p:spPr>
            <a:xfrm>
              <a:off x="2212920" y="4267080"/>
              <a:ext cx="658332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2617920" y="4332240"/>
              <a:ext cx="61228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TextBox 26"/>
          <p:cNvSpPr/>
          <p:nvPr/>
        </p:nvSpPr>
        <p:spPr>
          <a:xfrm>
            <a:off x="500040" y="1857240"/>
            <a:ext cx="1143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31"/>
          <p:cNvSpPr/>
          <p:nvPr/>
        </p:nvSpPr>
        <p:spPr>
          <a:xfrm>
            <a:off x="3000240" y="71424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транспортной схемы в части территорий 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32"/>
          <p:cNvSpPr/>
          <p:nvPr/>
        </p:nvSpPr>
        <p:spPr>
          <a:xfrm>
            <a:off x="2928960" y="185724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ок в отдельных муниципальных образованиях площадей, необходимых для размещения точек отпуска лекар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33"/>
          <p:cNvSpPr/>
          <p:nvPr/>
        </p:nvSpPr>
        <p:spPr>
          <a:xfrm>
            <a:off x="3000240" y="3214800"/>
            <a:ext cx="529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кий дефицит фармацевтических кадров, особенно в сельской мес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Box 34"/>
          <p:cNvSpPr/>
          <p:nvPr/>
        </p:nvSpPr>
        <p:spPr>
          <a:xfrm>
            <a:off x="2643120" y="428616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составления заявки, анализ ис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со стандартами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Номер слайда 3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5B4-8452-4CB5-8670-06D3739FF226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2" descr=""/>
          <p:cNvPicPr/>
          <p:nvPr/>
        </p:nvPicPr>
        <p:blipFill>
          <a:blip r:embed="rId13"/>
          <a:stretch/>
        </p:blipFill>
        <p:spPr>
          <a:xfrm>
            <a:off x="785880" y="2071800"/>
            <a:ext cx="576360" cy="4809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2" descr=""/>
          <p:cNvPicPr/>
          <p:nvPr/>
        </p:nvPicPr>
        <p:blipFill>
          <a:blip r:embed="rId14"/>
          <a:stretch/>
        </p:blipFill>
        <p:spPr>
          <a:xfrm>
            <a:off x="714240" y="857160"/>
            <a:ext cx="668520" cy="5763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3" descr="bd10015_"/>
          <p:cNvPicPr/>
          <p:nvPr/>
        </p:nvPicPr>
        <p:blipFill>
          <a:blip r:embed="rId15"/>
          <a:stretch/>
        </p:blipFill>
        <p:spPr>
          <a:xfrm>
            <a:off x="714240" y="32148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2" descr=""/>
          <p:cNvPicPr/>
          <p:nvPr/>
        </p:nvPicPr>
        <p:blipFill>
          <a:blip r:embed="rId16"/>
          <a:stretch/>
        </p:blipFill>
        <p:spPr>
          <a:xfrm>
            <a:off x="642960" y="4357800"/>
            <a:ext cx="936720" cy="504720"/>
          </a:xfrm>
          <a:prstGeom prst="rect">
            <a:avLst/>
          </a:prstGeom>
          <a:ln w="0">
            <a:noFill/>
          </a:ln>
        </p:spPr>
      </p:pic>
      <p:sp>
        <p:nvSpPr>
          <p:cNvPr id="1336" name="TextBox 41"/>
          <p:cNvSpPr/>
          <p:nvPr/>
        </p:nvSpPr>
        <p:spPr>
          <a:xfrm>
            <a:off x="1000080" y="712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 лекарственного обеспечения Ю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7" name="Овал 7"/>
          <p:cNvGrpSpPr/>
          <p:nvPr/>
        </p:nvGrpSpPr>
        <p:grpSpPr>
          <a:xfrm>
            <a:off x="139680" y="1054080"/>
            <a:ext cx="1517760" cy="976320"/>
            <a:chOff x="139680" y="1054080"/>
            <a:chExt cx="1517760" cy="976320"/>
          </a:xfrm>
        </p:grpSpPr>
        <p:pic>
          <p:nvPicPr>
            <p:cNvPr id="1338" name="Овал 7" descr=""/>
            <p:cNvPicPr/>
            <p:nvPr/>
          </p:nvPicPr>
          <p:blipFill>
            <a:blip r:embed="rId1"/>
            <a:stretch/>
          </p:blipFill>
          <p:spPr>
            <a:xfrm>
              <a:off x="139680" y="1054080"/>
              <a:ext cx="15177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9" name=""/>
            <p:cNvSpPr/>
            <p:nvPr/>
          </p:nvSpPr>
          <p:spPr>
            <a:xfrm>
              <a:off x="666720" y="1165320"/>
              <a:ext cx="80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Овал 8"/>
          <p:cNvGrpSpPr/>
          <p:nvPr/>
        </p:nvGrpSpPr>
        <p:grpSpPr>
          <a:xfrm>
            <a:off x="139680" y="1908000"/>
            <a:ext cx="1517760" cy="981360"/>
            <a:chOff x="139680" y="1908000"/>
            <a:chExt cx="1517760" cy="981360"/>
          </a:xfrm>
        </p:grpSpPr>
        <p:pic>
          <p:nvPicPr>
            <p:cNvPr id="1341" name="Овал 8" descr=""/>
            <p:cNvPicPr/>
            <p:nvPr/>
          </p:nvPicPr>
          <p:blipFill>
            <a:blip r:embed="rId2"/>
            <a:stretch/>
          </p:blipFill>
          <p:spPr>
            <a:xfrm>
              <a:off x="139680" y="1908000"/>
              <a:ext cx="151776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2" name=""/>
            <p:cNvSpPr/>
            <p:nvPr/>
          </p:nvSpPr>
          <p:spPr>
            <a:xfrm>
              <a:off x="666720" y="2022480"/>
              <a:ext cx="8096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Овал 9"/>
          <p:cNvGrpSpPr/>
          <p:nvPr/>
        </p:nvGrpSpPr>
        <p:grpSpPr>
          <a:xfrm>
            <a:off x="139680" y="2766960"/>
            <a:ext cx="1517760" cy="982800"/>
            <a:chOff x="139680" y="2766960"/>
            <a:chExt cx="1517760" cy="982800"/>
          </a:xfrm>
        </p:grpSpPr>
        <p:pic>
          <p:nvPicPr>
            <p:cNvPr id="1344" name="Овал 9" descr=""/>
            <p:cNvPicPr/>
            <p:nvPr/>
          </p:nvPicPr>
          <p:blipFill>
            <a:blip r:embed="rId3"/>
            <a:stretch/>
          </p:blipFill>
          <p:spPr>
            <a:xfrm>
              <a:off x="139680" y="2766960"/>
              <a:ext cx="151776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5" name=""/>
            <p:cNvSpPr/>
            <p:nvPr/>
          </p:nvSpPr>
          <p:spPr>
            <a:xfrm>
              <a:off x="666720" y="2879640"/>
              <a:ext cx="8096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Овал 10"/>
          <p:cNvGrpSpPr/>
          <p:nvPr/>
        </p:nvGrpSpPr>
        <p:grpSpPr>
          <a:xfrm>
            <a:off x="139680" y="3627360"/>
            <a:ext cx="1517760" cy="974880"/>
            <a:chOff x="139680" y="3627360"/>
            <a:chExt cx="1517760" cy="974880"/>
          </a:xfrm>
        </p:grpSpPr>
        <p:pic>
          <p:nvPicPr>
            <p:cNvPr id="1347" name="Овал 10" descr=""/>
            <p:cNvPicPr/>
            <p:nvPr/>
          </p:nvPicPr>
          <p:blipFill>
            <a:blip r:embed="rId4"/>
            <a:stretch/>
          </p:blipFill>
          <p:spPr>
            <a:xfrm>
              <a:off x="139680" y="3627360"/>
              <a:ext cx="151776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8" name=""/>
            <p:cNvSpPr/>
            <p:nvPr/>
          </p:nvSpPr>
          <p:spPr>
            <a:xfrm>
              <a:off x="666720" y="3736800"/>
              <a:ext cx="8096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9" name="Скругленный прямоугольник 35"/>
          <p:cNvSpPr/>
          <p:nvPr/>
        </p:nvSpPr>
        <p:spPr>
          <a:xfrm>
            <a:off x="500040" y="642960"/>
            <a:ext cx="1143000" cy="43578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4357800"/>
              <a:gd name="textAreaBottom" fmla="*/ 4302000 h 4357800"/>
            </a:gdLst>
            <a:ahLst/>
            <a:rect l="textAreaLeft" t="textAreaTop" r="textAreaRight" b="textAreaBottom"/>
            <a:pathLst>
              <a:path w="21600" h="82333">
                <a:moveTo>
                  <a:pt x="3600" y="0"/>
                </a:moveTo>
                <a:arcTo wR="3600" hR="3600" stAng="16200000" swAng="-5400000"/>
                <a:lnTo>
                  <a:pt x="0" y="78733"/>
                </a:lnTo>
                <a:arcTo wR="3600" hR="3600" stAng="10800000" swAng="-5400000"/>
                <a:lnTo>
                  <a:pt x="18000" y="823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Стрелка вправо 13"/>
          <p:cNvGrpSpPr/>
          <p:nvPr/>
        </p:nvGrpSpPr>
        <p:grpSpPr>
          <a:xfrm>
            <a:off x="1427040" y="907920"/>
            <a:ext cx="1084320" cy="695520"/>
            <a:chOff x="1427040" y="907920"/>
            <a:chExt cx="1084320" cy="695520"/>
          </a:xfrm>
        </p:grpSpPr>
        <p:pic>
          <p:nvPicPr>
            <p:cNvPr id="1351" name="Стрелка вправо 13" descr=""/>
            <p:cNvPicPr/>
            <p:nvPr/>
          </p:nvPicPr>
          <p:blipFill>
            <a:blip r:embed="rId5"/>
            <a:stretch/>
          </p:blipFill>
          <p:spPr>
            <a:xfrm>
              <a:off x="1427040" y="907920"/>
              <a:ext cx="10843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"/>
            <p:cNvSpPr/>
            <p:nvPr/>
          </p:nvSpPr>
          <p:spPr>
            <a:xfrm>
              <a:off x="1785960" y="1017720"/>
              <a:ext cx="6253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Стрелка вправо 14"/>
          <p:cNvGrpSpPr/>
          <p:nvPr/>
        </p:nvGrpSpPr>
        <p:grpSpPr>
          <a:xfrm>
            <a:off x="1427040" y="2127240"/>
            <a:ext cx="1084320" cy="689040"/>
            <a:chOff x="1427040" y="2127240"/>
            <a:chExt cx="1084320" cy="689040"/>
          </a:xfrm>
        </p:grpSpPr>
        <p:pic>
          <p:nvPicPr>
            <p:cNvPr id="1354" name="Стрелка вправо 14" descr=""/>
            <p:cNvPicPr/>
            <p:nvPr/>
          </p:nvPicPr>
          <p:blipFill>
            <a:blip r:embed="rId6"/>
            <a:stretch/>
          </p:blipFill>
          <p:spPr>
            <a:xfrm>
              <a:off x="1427040" y="2127240"/>
              <a:ext cx="10843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5" name=""/>
            <p:cNvSpPr/>
            <p:nvPr/>
          </p:nvSpPr>
          <p:spPr>
            <a:xfrm>
              <a:off x="1785960" y="2232000"/>
              <a:ext cx="6253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Стрелка вправо 15"/>
          <p:cNvGrpSpPr/>
          <p:nvPr/>
        </p:nvGrpSpPr>
        <p:grpSpPr>
          <a:xfrm>
            <a:off x="1427040" y="3193920"/>
            <a:ext cx="1084320" cy="695520"/>
            <a:chOff x="1427040" y="3193920"/>
            <a:chExt cx="1084320" cy="695520"/>
          </a:xfrm>
        </p:grpSpPr>
        <p:pic>
          <p:nvPicPr>
            <p:cNvPr id="1357" name="Стрелка вправо 15" descr=""/>
            <p:cNvPicPr/>
            <p:nvPr/>
          </p:nvPicPr>
          <p:blipFill>
            <a:blip r:embed="rId7"/>
            <a:stretch/>
          </p:blipFill>
          <p:spPr>
            <a:xfrm>
              <a:off x="1427040" y="3193920"/>
              <a:ext cx="10843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1785960" y="3303720"/>
              <a:ext cx="6253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Стрелка вправо 16"/>
          <p:cNvGrpSpPr/>
          <p:nvPr/>
        </p:nvGrpSpPr>
        <p:grpSpPr>
          <a:xfrm>
            <a:off x="1427040" y="4267080"/>
            <a:ext cx="1084320" cy="695520"/>
            <a:chOff x="1427040" y="4267080"/>
            <a:chExt cx="1084320" cy="695520"/>
          </a:xfrm>
        </p:grpSpPr>
        <p:pic>
          <p:nvPicPr>
            <p:cNvPr id="1360" name="Стрелка вправо 16" descr=""/>
            <p:cNvPicPr/>
            <p:nvPr/>
          </p:nvPicPr>
          <p:blipFill>
            <a:blip r:embed="rId8"/>
            <a:stretch/>
          </p:blipFill>
          <p:spPr>
            <a:xfrm>
              <a:off x="1427040" y="4267080"/>
              <a:ext cx="10843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1" name=""/>
            <p:cNvSpPr/>
            <p:nvPr/>
          </p:nvSpPr>
          <p:spPr>
            <a:xfrm>
              <a:off x="1785960" y="4375080"/>
              <a:ext cx="6253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Скругленный прямоугольник 19"/>
          <p:cNvGrpSpPr/>
          <p:nvPr/>
        </p:nvGrpSpPr>
        <p:grpSpPr>
          <a:xfrm>
            <a:off x="2212920" y="695160"/>
            <a:ext cx="6570720" cy="1266840"/>
            <a:chOff x="2212920" y="695160"/>
            <a:chExt cx="6570720" cy="1266840"/>
          </a:xfrm>
        </p:grpSpPr>
        <p:pic>
          <p:nvPicPr>
            <p:cNvPr id="1363" name="Скругленный прямоугольник 19" descr=""/>
            <p:cNvPicPr/>
            <p:nvPr/>
          </p:nvPicPr>
          <p:blipFill>
            <a:blip r:embed="rId9"/>
            <a:stretch/>
          </p:blipFill>
          <p:spPr>
            <a:xfrm>
              <a:off x="2212920" y="695160"/>
              <a:ext cx="657072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4" name=""/>
            <p:cNvSpPr/>
            <p:nvPr/>
          </p:nvSpPr>
          <p:spPr>
            <a:xfrm>
              <a:off x="2617920" y="760320"/>
              <a:ext cx="61084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Скругленный прямоугольник 20"/>
          <p:cNvGrpSpPr/>
          <p:nvPr/>
        </p:nvGrpSpPr>
        <p:grpSpPr>
          <a:xfrm>
            <a:off x="2212920" y="1792440"/>
            <a:ext cx="6570720" cy="1261800"/>
            <a:chOff x="2212920" y="1792440"/>
            <a:chExt cx="6570720" cy="1261800"/>
          </a:xfrm>
        </p:grpSpPr>
        <p:pic>
          <p:nvPicPr>
            <p:cNvPr id="1366" name="Скругленный прямоугольник 20" descr=""/>
            <p:cNvPicPr/>
            <p:nvPr/>
          </p:nvPicPr>
          <p:blipFill>
            <a:blip r:embed="rId10"/>
            <a:stretch/>
          </p:blipFill>
          <p:spPr>
            <a:xfrm>
              <a:off x="2212920" y="1792440"/>
              <a:ext cx="657072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7" name=""/>
            <p:cNvSpPr/>
            <p:nvPr/>
          </p:nvSpPr>
          <p:spPr>
            <a:xfrm>
              <a:off x="2617920" y="1854360"/>
              <a:ext cx="610848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Скругленный прямоугольник 21"/>
          <p:cNvGrpSpPr/>
          <p:nvPr/>
        </p:nvGrpSpPr>
        <p:grpSpPr>
          <a:xfrm>
            <a:off x="2212920" y="2882880"/>
            <a:ext cx="6583320" cy="1268280"/>
            <a:chOff x="2212920" y="2882880"/>
            <a:chExt cx="6583320" cy="1268280"/>
          </a:xfrm>
        </p:grpSpPr>
        <p:pic>
          <p:nvPicPr>
            <p:cNvPr id="1369" name="Скругленный прямоугольник 21" descr=""/>
            <p:cNvPicPr/>
            <p:nvPr/>
          </p:nvPicPr>
          <p:blipFill>
            <a:blip r:embed="rId11"/>
            <a:stretch/>
          </p:blipFill>
          <p:spPr>
            <a:xfrm>
              <a:off x="2212920" y="2882880"/>
              <a:ext cx="65833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0" name=""/>
            <p:cNvSpPr/>
            <p:nvPr/>
          </p:nvSpPr>
          <p:spPr>
            <a:xfrm>
              <a:off x="2617920" y="2949480"/>
              <a:ext cx="612288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Скругленный прямоугольник 22"/>
          <p:cNvGrpSpPr/>
          <p:nvPr/>
        </p:nvGrpSpPr>
        <p:grpSpPr>
          <a:xfrm>
            <a:off x="2212920" y="3981600"/>
            <a:ext cx="6583320" cy="1266840"/>
            <a:chOff x="2212920" y="3981600"/>
            <a:chExt cx="6583320" cy="1266840"/>
          </a:xfrm>
        </p:grpSpPr>
        <p:pic>
          <p:nvPicPr>
            <p:cNvPr id="1372" name="Скругленный прямоугольник 22" descr=""/>
            <p:cNvPicPr/>
            <p:nvPr/>
          </p:nvPicPr>
          <p:blipFill>
            <a:blip r:embed="rId12"/>
            <a:stretch/>
          </p:blipFill>
          <p:spPr>
            <a:xfrm>
              <a:off x="2212920" y="3981600"/>
              <a:ext cx="658332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3" name=""/>
            <p:cNvSpPr/>
            <p:nvPr/>
          </p:nvSpPr>
          <p:spPr>
            <a:xfrm>
              <a:off x="2631960" y="4060800"/>
              <a:ext cx="609444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4" name="TextBox 26"/>
          <p:cNvSpPr/>
          <p:nvPr/>
        </p:nvSpPr>
        <p:spPr>
          <a:xfrm>
            <a:off x="500040" y="1857240"/>
            <a:ext cx="1143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Box 31"/>
          <p:cNvSpPr/>
          <p:nvPr/>
        </p:nvSpPr>
        <p:spPr>
          <a:xfrm>
            <a:off x="3000240" y="71424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тдалённых территорий организован досрочный завоз наиважнейших лекарственных препар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Box 32"/>
          <p:cNvSpPr/>
          <p:nvPr/>
        </p:nvSpPr>
        <p:spPr>
          <a:xfrm>
            <a:off x="2928960" y="178596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ение перечня аптечных организаций, участвующих в отпуске льготных лекарственных препар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Box 33"/>
          <p:cNvSpPr/>
          <p:nvPr/>
        </p:nvSpPr>
        <p:spPr>
          <a:xfrm>
            <a:off x="3000240" y="2928960"/>
            <a:ext cx="52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ется вопрос о подготовке кадров на базе окружных медицинских образователь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Box 34"/>
          <p:cNvSpPr/>
          <p:nvPr/>
        </p:nvSpPr>
        <p:spPr>
          <a:xfrm>
            <a:off x="2643120" y="400068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и составления заявок будут включены в тематические курсы усовершенствования медицинских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Номер слайда 3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5894-3651-4639-8F32-CB530C71D938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0" name="Picture 2" descr=""/>
          <p:cNvPicPr/>
          <p:nvPr/>
        </p:nvPicPr>
        <p:blipFill>
          <a:blip r:embed="rId13"/>
          <a:stretch/>
        </p:blipFill>
        <p:spPr>
          <a:xfrm>
            <a:off x="785880" y="2071800"/>
            <a:ext cx="576360" cy="48096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2" descr=""/>
          <p:cNvPicPr/>
          <p:nvPr/>
        </p:nvPicPr>
        <p:blipFill>
          <a:blip r:embed="rId14"/>
          <a:stretch/>
        </p:blipFill>
        <p:spPr>
          <a:xfrm>
            <a:off x="714240" y="928800"/>
            <a:ext cx="668520" cy="57600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3" descr="bd10015_"/>
          <p:cNvPicPr/>
          <p:nvPr/>
        </p:nvPicPr>
        <p:blipFill>
          <a:blip r:embed="rId15"/>
          <a:stretch/>
        </p:blipFill>
        <p:spPr>
          <a:xfrm>
            <a:off x="714240" y="30718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2" descr=""/>
          <p:cNvPicPr/>
          <p:nvPr/>
        </p:nvPicPr>
        <p:blipFill>
          <a:blip r:embed="rId16"/>
          <a:stretch/>
        </p:blipFill>
        <p:spPr>
          <a:xfrm>
            <a:off x="642960" y="4214880"/>
            <a:ext cx="936720" cy="504720"/>
          </a:xfrm>
          <a:prstGeom prst="rect">
            <a:avLst/>
          </a:prstGeom>
          <a:ln w="0">
            <a:noFill/>
          </a:ln>
        </p:spPr>
      </p:pic>
      <p:sp>
        <p:nvSpPr>
          <p:cNvPr id="1384" name="TextBox 41"/>
          <p:cNvSpPr/>
          <p:nvPr/>
        </p:nvSpPr>
        <p:spPr>
          <a:xfrm>
            <a:off x="1000080" y="712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Box 42"/>
          <p:cNvSpPr/>
          <p:nvPr/>
        </p:nvSpPr>
        <p:spPr>
          <a:xfrm>
            <a:off x="2571840" y="57150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Заголовок 1"/>
          <p:cNvGrpSpPr/>
          <p:nvPr/>
        </p:nvGrpSpPr>
        <p:grpSpPr>
          <a:xfrm>
            <a:off x="615960" y="60480"/>
            <a:ext cx="8265960" cy="1109520"/>
            <a:chOff x="615960" y="60480"/>
            <a:chExt cx="8265960" cy="1109520"/>
          </a:xfrm>
        </p:grpSpPr>
        <p:pic>
          <p:nvPicPr>
            <p:cNvPr id="123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15960" y="60480"/>
              <a:ext cx="82659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5" name=""/>
            <p:cNvSpPr/>
            <p:nvPr/>
          </p:nvSpPr>
          <p:spPr>
            <a:xfrm>
              <a:off x="714240" y="155520"/>
              <a:ext cx="80726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ed46c"/>
                  </a:solidFill>
                  <a:latin typeface="Corbel"/>
                </a:rPr>
                <a:t>Лекарственное  обеспечение  отдельных  категорий  граждан</a:t>
              </a:r>
              <a:br>
                <a:rPr sz="2400"/>
              </a:br>
              <a:r>
                <a:rPr b="0" lang="ru-RU" sz="2400" spc="-1" strike="noStrike">
                  <a:solidFill>
                    <a:srgbClr val="fed46c"/>
                  </a:solidFill>
                  <a:latin typeface="Corbel"/>
                </a:rPr>
                <a:t>в  Югре  осуществляется  из  трёх  источников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6" name="Содержимое 5" descr=""/>
          <p:cNvPicPr/>
          <p:nvPr/>
        </p:nvPicPr>
        <p:blipFill>
          <a:blip r:embed="rId2"/>
          <a:stretch/>
        </p:blipFill>
        <p:spPr>
          <a:xfrm>
            <a:off x="3638520" y="208080"/>
            <a:ext cx="5511960" cy="6516720"/>
          </a:xfrm>
          <a:prstGeom prst="rect">
            <a:avLst/>
          </a:prstGeom>
          <a:ln w="0">
            <a:noFill/>
          </a:ln>
        </p:spPr>
      </p:pic>
      <p:sp>
        <p:nvSpPr>
          <p:cNvPr id="1237" name="Номер слайда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F82C-A6A7-4787-9ADF-B651398DC90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4"/>
          <p:cNvSpPr/>
          <p:nvPr/>
        </p:nvSpPr>
        <p:spPr>
          <a:xfrm>
            <a:off x="714240" y="1714680"/>
            <a:ext cx="321480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7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ВЗН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– обеспечение дорогостоящими лекарственными препаратами по высокозатратным нозолог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ОНЛС </a:t>
            </a:r>
            <a:r>
              <a:rPr b="0" lang="ru-RU" sz="1200" spc="-1" strike="noStrike">
                <a:solidFill>
                  <a:srgbClr val="00b050"/>
                </a:solidFill>
                <a:latin typeface="Arial"/>
              </a:rPr>
              <a:t>– обеспечение необходимыми лекарственными препаратами за счёт средств федерально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Arial"/>
              </a:rPr>
              <a:t>(в составе набора социальных услу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b0105c"/>
                </a:solidFill>
                <a:latin typeface="Arial"/>
              </a:rPr>
              <a:t>РЛО </a:t>
            </a:r>
            <a:r>
              <a:rPr b="0" lang="ru-RU" sz="1200" spc="-1" strike="noStrike">
                <a:solidFill>
                  <a:srgbClr val="b0105c"/>
                </a:solidFill>
                <a:latin typeface="Arial"/>
              </a:rPr>
              <a:t>– обеспечение отдельных категорий граждан лекарственными препаратами за счёт средств бюджета автономного ок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0105c"/>
                </a:solidFill>
                <a:latin typeface="Arial"/>
              </a:rPr>
              <a:t>(по отдельным видам заболеваний и категорий гражд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Прямоугольник 6"/>
          <p:cNvSpPr/>
          <p:nvPr/>
        </p:nvSpPr>
        <p:spPr>
          <a:xfrm>
            <a:off x="0" y="0"/>
            <a:ext cx="357120" cy="6858000"/>
          </a:xfrm>
          <a:prstGeom prst="rect">
            <a:avLst/>
          </a:prstGeom>
          <a:solidFill>
            <a:srgbClr val="003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карта-зона СКПЦ"/>
          <p:cNvPicPr/>
          <p:nvPr/>
        </p:nvPicPr>
        <p:blipFill>
          <a:blip r:embed="rId1"/>
          <a:stretch/>
        </p:blipFill>
        <p:spPr>
          <a:xfrm>
            <a:off x="571680" y="2000160"/>
            <a:ext cx="6732360" cy="451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1" name=""/>
          <p:cNvGraphicFramePr/>
          <p:nvPr/>
        </p:nvGraphicFramePr>
        <p:xfrm>
          <a:off x="3786120" y="1000080"/>
          <a:ext cx="5102280" cy="2163960"/>
        </p:xfrm>
        <a:graphic>
          <a:graphicData uri="http://schemas.openxmlformats.org/drawingml/2006/table">
            <a:tbl>
              <a:tblPr/>
              <a:tblGrid>
                <a:gridCol w="1700280"/>
                <a:gridCol w="1701720"/>
                <a:gridCol w="1700280"/>
              </a:tblGrid>
              <a:tr h="64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 – 1561,2 тыс.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ельный вес расходов на здравоохранение в Югре – 1,9% ВВ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оссия  - 3,5-3,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157a"/>
                      </a:solidFill>
                    </a:lnL>
                    <a:lnR w="5760">
                      <a:solidFill>
                        <a:srgbClr val="ea157a"/>
                      </a:solidFill>
                    </a:lnR>
                    <a:lnT w="5760">
                      <a:solidFill>
                        <a:srgbClr val="ea157a"/>
                      </a:solidFill>
                    </a:lnT>
                    <a:lnB w="12240">
                      <a:solidFill>
                        <a:srgbClr val="ea157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 льготников по ОНЛС: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0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братилос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6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4,6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157a"/>
                      </a:solidFill>
                    </a:lnL>
                    <a:lnR w="5760">
                      <a:solidFill>
                        <a:srgbClr val="ea157a"/>
                      </a:solidFill>
                    </a:lnR>
                    <a:lnT w="12240">
                      <a:solidFill>
                        <a:srgbClr val="ea157a"/>
                      </a:solidFill>
                    </a:lnT>
                    <a:lnB w="5760">
                      <a:solidFill>
                        <a:srgbClr val="ea157a"/>
                      </a:solidFill>
                    </a:lnB>
                    <a:solidFill>
                      <a:srgbClr val="ea157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 льготников по РЛО: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 6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братилос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,2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157a"/>
                      </a:solidFill>
                    </a:lnL>
                    <a:lnR w="5760">
                      <a:solidFill>
                        <a:srgbClr val="ea157a"/>
                      </a:solidFill>
                    </a:lnR>
                    <a:lnT w="12240">
                      <a:solidFill>
                        <a:srgbClr val="ea157a"/>
                      </a:solidFill>
                    </a:lnT>
                    <a:lnB w="5760">
                      <a:solidFill>
                        <a:srgbClr val="ea157a"/>
                      </a:solidFill>
                    </a:lnB>
                    <a:solidFill>
                      <a:srgbClr val="ea157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 льготников по 7ВЗН: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братилос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2,0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157a"/>
                      </a:solidFill>
                    </a:lnL>
                    <a:lnR w="5760">
                      <a:solidFill>
                        <a:srgbClr val="ea157a"/>
                      </a:solidFill>
                    </a:lnR>
                    <a:lnT w="12240">
                      <a:solidFill>
                        <a:srgbClr val="ea157a"/>
                      </a:solidFill>
                    </a:lnT>
                    <a:lnB w="5760">
                      <a:solidFill>
                        <a:srgbClr val="ea157a"/>
                      </a:solidFill>
                    </a:lnB>
                    <a:solidFill>
                      <a:srgbClr val="ea157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42" name="Номер слайда 17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12C7-FC4B-4632-86DA-1C319D844E8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Прямоугольник 4"/>
          <p:cNvSpPr/>
          <p:nvPr/>
        </p:nvSpPr>
        <p:spPr>
          <a:xfrm>
            <a:off x="0" y="0"/>
            <a:ext cx="357120" cy="6858000"/>
          </a:xfrm>
          <a:prstGeom prst="rect">
            <a:avLst/>
          </a:prstGeom>
          <a:solidFill>
            <a:srgbClr val="003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5"/>
          <p:cNvSpPr/>
          <p:nvPr/>
        </p:nvSpPr>
        <p:spPr>
          <a:xfrm>
            <a:off x="3571920" y="28584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Ханты-Мансийский автономный округ - Ю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Заголовок 1" descr=""/>
          <p:cNvPicPr/>
          <p:nvPr/>
        </p:nvPicPr>
        <p:blipFill>
          <a:blip r:embed="rId1"/>
          <a:stretch/>
        </p:blipFill>
        <p:spPr>
          <a:xfrm>
            <a:off x="993600" y="139680"/>
            <a:ext cx="7785360" cy="1116000"/>
          </a:xfrm>
          <a:prstGeom prst="rect">
            <a:avLst/>
          </a:prstGeom>
          <a:ln w="0">
            <a:noFill/>
          </a:ln>
        </p:spPr>
      </p:pic>
      <p:pic>
        <p:nvPicPr>
          <p:cNvPr id="1246" name="Содержимое 3" descr=""/>
          <p:cNvPicPr/>
          <p:nvPr/>
        </p:nvPicPr>
        <p:blipFill>
          <a:blip r:embed="rId2"/>
          <a:stretch/>
        </p:blipFill>
        <p:spPr>
          <a:xfrm>
            <a:off x="907920" y="1689120"/>
            <a:ext cx="7785360" cy="4913280"/>
          </a:xfrm>
          <a:prstGeom prst="rect">
            <a:avLst/>
          </a:prstGeom>
          <a:ln w="0">
            <a:noFill/>
          </a:ln>
        </p:spPr>
      </p:pic>
      <p:sp>
        <p:nvSpPr>
          <p:cNvPr id="1247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F8DE-CC79-4002-96C1-CED6E28F686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c4d6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8" name="Заголовок 3" descr=""/>
          <p:cNvPicPr/>
          <p:nvPr/>
        </p:nvPicPr>
        <p:blipFill>
          <a:blip r:embed="rId1"/>
          <a:stretch/>
        </p:blipFill>
        <p:spPr>
          <a:xfrm>
            <a:off x="390600" y="152280"/>
            <a:ext cx="8442360" cy="1262160"/>
          </a:xfrm>
          <a:prstGeom prst="rect">
            <a:avLst/>
          </a:prstGeom>
          <a:ln w="0">
            <a:noFill/>
          </a:ln>
        </p:spPr>
      </p:pic>
      <p:pic>
        <p:nvPicPr>
          <p:cNvPr id="1249" name="Содержимое 5" descr=""/>
          <p:cNvPicPr/>
          <p:nvPr/>
        </p:nvPicPr>
        <p:blipFill>
          <a:blip r:embed="rId2"/>
          <a:stretch/>
        </p:blipFill>
        <p:spPr>
          <a:xfrm>
            <a:off x="0" y="1714680"/>
            <a:ext cx="9001080" cy="4714560"/>
          </a:xfrm>
          <a:prstGeom prst="rect">
            <a:avLst/>
          </a:prstGeom>
          <a:ln w="0">
            <a:noFill/>
          </a:ln>
        </p:spPr>
      </p:pic>
      <p:sp>
        <p:nvSpPr>
          <p:cNvPr id="1250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5498-DADD-4B27-8A2C-9D7E36A1524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Стрелка вверх 8"/>
          <p:cNvSpPr/>
          <p:nvPr/>
        </p:nvSpPr>
        <p:spPr>
          <a:xfrm rot="3970200">
            <a:off x="3356280" y="2261160"/>
            <a:ext cx="257400" cy="477720"/>
          </a:xfrm>
          <a:prstGeom prst="upArrow">
            <a:avLst>
              <a:gd name="adj1" fmla="val 50000"/>
              <a:gd name="adj2" fmla="val 49947"/>
            </a:avLst>
          </a:prstGeom>
          <a:gradFill rotWithShape="0">
            <a:gsLst>
              <a:gs pos="0">
                <a:srgbClr val="b0f6b1"/>
              </a:gs>
              <a:gs pos="100000">
                <a:srgbClr val="e9fde9"/>
              </a:gs>
            </a:gsLst>
            <a:lin ang="12228000"/>
          </a:gradFill>
          <a:ln cap="rnd" w="6480">
            <a:solidFill>
              <a:srgbClr val="67b56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Стрелка вверх 9"/>
          <p:cNvSpPr/>
          <p:nvPr/>
        </p:nvSpPr>
        <p:spPr>
          <a:xfrm rot="2716200">
            <a:off x="2129040" y="2954160"/>
            <a:ext cx="269640" cy="473040"/>
          </a:xfrm>
          <a:prstGeom prst="upArrow">
            <a:avLst>
              <a:gd name="adj1" fmla="val 50000"/>
              <a:gd name="adj2" fmla="val 50039"/>
            </a:avLst>
          </a:prstGeom>
          <a:gradFill rotWithShape="0">
            <a:gsLst>
              <a:gs pos="0">
                <a:srgbClr val="b0f6b1"/>
              </a:gs>
              <a:gs pos="100000">
                <a:srgbClr val="e9fde9"/>
              </a:gs>
            </a:gsLst>
            <a:lin ang="13482000"/>
          </a:gradFill>
          <a:ln cap="rnd" w="6480">
            <a:solidFill>
              <a:srgbClr val="67b56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Стрелка вверх 7"/>
          <p:cNvSpPr/>
          <p:nvPr/>
        </p:nvSpPr>
        <p:spPr>
          <a:xfrm rot="4582200">
            <a:off x="4491360" y="2085120"/>
            <a:ext cx="257040" cy="477720"/>
          </a:xfrm>
          <a:prstGeom prst="up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b0f6b1"/>
              </a:gs>
              <a:gs pos="100000">
                <a:srgbClr val="e9fde9"/>
              </a:gs>
            </a:gsLst>
            <a:lin ang="11616000"/>
          </a:gradFill>
          <a:ln cap="rnd" w="6480">
            <a:solidFill>
              <a:srgbClr val="67b56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Стрелка вверх 10"/>
          <p:cNvSpPr/>
          <p:nvPr/>
        </p:nvSpPr>
        <p:spPr>
          <a:xfrm rot="5400000">
            <a:off x="5704200" y="1847160"/>
            <a:ext cx="257400" cy="477720"/>
          </a:xfrm>
          <a:prstGeom prst="upArrow">
            <a:avLst>
              <a:gd name="adj1" fmla="val 50000"/>
              <a:gd name="adj2" fmla="val 49947"/>
            </a:avLst>
          </a:prstGeom>
          <a:gradFill rotWithShape="0">
            <a:gsLst>
              <a:gs pos="0">
                <a:srgbClr val="b0f6b1"/>
              </a:gs>
              <a:gs pos="100000">
                <a:srgbClr val="e9fde9"/>
              </a:gs>
            </a:gsLst>
            <a:lin ang="10800000"/>
          </a:gradFill>
          <a:ln cap="rnd" w="6480">
            <a:solidFill>
              <a:srgbClr val="67b569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5" name="Заголовок 3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256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8786880" cy="5000400"/>
          </a:xfrm>
          <a:prstGeom prst="rect">
            <a:avLst/>
          </a:prstGeom>
          <a:ln w="0">
            <a:noFill/>
          </a:ln>
        </p:spPr>
      </p:pic>
      <p:sp>
        <p:nvSpPr>
          <p:cNvPr id="1257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A802-E1AF-4290-9E8A-61A5067C888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Заголовок 3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1309680"/>
          </a:xfrm>
          <a:prstGeom prst="rect">
            <a:avLst/>
          </a:prstGeom>
          <a:ln w="0">
            <a:noFill/>
          </a:ln>
        </p:spPr>
      </p:pic>
      <p:pic>
        <p:nvPicPr>
          <p:cNvPr id="1259" name="Диаграмма 5" descr=""/>
          <p:cNvPicPr/>
          <p:nvPr/>
        </p:nvPicPr>
        <p:blipFill>
          <a:blip r:embed="rId2"/>
          <a:stretch/>
        </p:blipFill>
        <p:spPr>
          <a:xfrm>
            <a:off x="142920" y="1643040"/>
            <a:ext cx="8858160" cy="5072040"/>
          </a:xfrm>
          <a:prstGeom prst="rect">
            <a:avLst/>
          </a:prstGeom>
          <a:ln w="0">
            <a:noFill/>
          </a:ln>
        </p:spPr>
      </p:pic>
      <p:sp>
        <p:nvSpPr>
          <p:cNvPr id="1260" name="Стрелка вверх 7"/>
          <p:cNvSpPr/>
          <p:nvPr/>
        </p:nvSpPr>
        <p:spPr>
          <a:xfrm rot="3805200">
            <a:off x="3628800" y="3292200"/>
            <a:ext cx="314640" cy="482400"/>
          </a:xfrm>
          <a:prstGeom prst="upArrow">
            <a:avLst>
              <a:gd name="adj1" fmla="val 50000"/>
              <a:gd name="adj2" fmla="val 49928"/>
            </a:avLst>
          </a:prstGeom>
          <a:gradFill rotWithShape="0">
            <a:gsLst>
              <a:gs pos="0">
                <a:srgbClr val="408d42"/>
              </a:gs>
              <a:gs pos="100000">
                <a:srgbClr val="5cc35f"/>
              </a:gs>
            </a:gsLst>
            <a:lin ang="12396000"/>
          </a:gradFill>
          <a:ln cap="rnd" w="6480">
            <a:solidFill>
              <a:srgbClr val="67b569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Box 8"/>
          <p:cNvSpPr/>
          <p:nvPr/>
        </p:nvSpPr>
        <p:spPr>
          <a:xfrm>
            <a:off x="3357720" y="242892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т на 45,9 % к 200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Номер слайда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ACB4-AE3D-4D75-B704-25397C9CC6A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Стрелка вверх 6"/>
          <p:cNvSpPr/>
          <p:nvPr/>
        </p:nvSpPr>
        <p:spPr>
          <a:xfrm rot="3805200">
            <a:off x="5200560" y="2649600"/>
            <a:ext cx="314280" cy="482400"/>
          </a:xfrm>
          <a:prstGeom prst="up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408d42"/>
              </a:gs>
              <a:gs pos="100000">
                <a:srgbClr val="5cc35f"/>
              </a:gs>
            </a:gsLst>
            <a:lin ang="12396000"/>
          </a:gradFill>
          <a:ln cap="rnd" w="6480">
            <a:solidFill>
              <a:srgbClr val="67b569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8"/>
          <p:cNvSpPr/>
          <p:nvPr/>
        </p:nvSpPr>
        <p:spPr>
          <a:xfrm>
            <a:off x="5000760" y="157176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ост на 30,9 % к 201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Заголовок 3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1266" name="Номер слайда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6618-0183-4577-B0CD-62459A920CA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7" name="Диаграмма 11" descr=""/>
          <p:cNvPicPr/>
          <p:nvPr/>
        </p:nvPicPr>
        <p:blipFill>
          <a:blip r:embed="rId2"/>
          <a:stretch/>
        </p:blipFill>
        <p:spPr>
          <a:xfrm>
            <a:off x="1071720" y="1643040"/>
            <a:ext cx="74419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Заголовок 3" descr=""/>
          <p:cNvPicPr/>
          <p:nvPr/>
        </p:nvPicPr>
        <p:blipFill>
          <a:blip r:embed="rId1"/>
          <a:stretch/>
        </p:blipFill>
        <p:spPr>
          <a:xfrm>
            <a:off x="378000" y="66600"/>
            <a:ext cx="8454960" cy="1262160"/>
          </a:xfrm>
          <a:prstGeom prst="rect">
            <a:avLst/>
          </a:prstGeom>
          <a:ln w="0">
            <a:noFill/>
          </a:ln>
        </p:spPr>
      </p:pic>
      <p:sp>
        <p:nvSpPr>
          <p:cNvPr id="1269" name="Номер слайда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37F5-A846-45CD-B4AA-9A9AAC85C09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Диаграмма 11" descr=""/>
          <p:cNvPicPr/>
          <p:nvPr/>
        </p:nvPicPr>
        <p:blipFill>
          <a:blip r:embed="rId2"/>
          <a:stretch/>
        </p:blipFill>
        <p:spPr>
          <a:xfrm>
            <a:off x="-214200" y="1643040"/>
            <a:ext cx="5000400" cy="4960800"/>
          </a:xfrm>
          <a:prstGeom prst="rect">
            <a:avLst/>
          </a:prstGeom>
          <a:ln w="0">
            <a:noFill/>
          </a:ln>
        </p:spPr>
      </p:pic>
      <p:pic>
        <p:nvPicPr>
          <p:cNvPr id="1271" name="Диаграмма 4" descr=""/>
          <p:cNvPicPr/>
          <p:nvPr/>
        </p:nvPicPr>
        <p:blipFill>
          <a:blip r:embed="rId3"/>
          <a:stretch/>
        </p:blipFill>
        <p:spPr>
          <a:xfrm>
            <a:off x="4214880" y="1643040"/>
            <a:ext cx="47149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3:39:43Z</dcterms:created>
  <dc:creator>panmed</dc:creator>
  <dc:description/>
  <dc:language>en-US</dc:language>
  <cp:lastModifiedBy>SklyarovaMS</cp:lastModifiedBy>
  <dcterms:modified xsi:type="dcterms:W3CDTF">2012-10-18T06:57:10Z</dcterms:modified>
  <cp:revision>722</cp:revision>
  <dc:subject/>
  <dc:title>Система лекарственного обеспечения льготных категорий граждан в Ханты-Мансийском автономном округе</dc:title>
</cp:coreProperties>
</file>